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04479"/>
        <c:axId val="8784845"/>
      </c:barChart>
      <c:catAx>
        <c:axId val="82204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4845"/>
        <c:crosses val="autoZero"/>
        <c:auto val="1"/>
        <c:lblAlgn val="ctr"/>
        <c:lblOffset val="100"/>
        <c:noMultiLvlLbl val="0"/>
      </c:catAx>
      <c:valAx>
        <c:axId val="8784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04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D9B-39D2-42B7-86D8-30B9D034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736-0466-4C79-A892-768E0C8F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DD1-558E-4715-89A4-7330865B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A30-DC22-4F3B-8B27-A18F4530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4B4-58C6-4D84-A66F-633044A2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806-0744-44D7-A521-98466BAD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9D8-E456-4255-9395-60578CAF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A21-4B81-4C9C-80E5-F6CDE9EF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F72-5082-4E73-8E3D-E9ADA289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604-7EB1-4A2A-8BBD-7E193674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420-7EB8-44A9-B98E-1C1DEB13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DF3-FF5F-41DB-8A42-7B32223E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785AB-BD50-4ACB-B53C-AAD1D8C9D6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