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639879"/>
        <c:axId val="97606692"/>
      </c:barChart>
      <c:catAx>
        <c:axId val="526398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606692"/>
        <c:crosses val="autoZero"/>
        <c:auto val="1"/>
        <c:lblAlgn val="ctr"/>
        <c:lblOffset val="100"/>
        <c:noMultiLvlLbl val="0"/>
      </c:catAx>
      <c:valAx>
        <c:axId val="976066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6398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ECF1-0DEC-4CAC-88EF-8D0EB50DD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4205-90A9-4F01-B8D8-D50B2AB7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EC6A-1FAC-495E-93D5-D915C46F0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EAD6-E049-4AD7-B2E5-223D6045C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CCA1-81FB-4D6B-916C-428DDB33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7425-67C1-47E6-8F8F-0DC18A2E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7DF2-085C-47E6-9E72-FAC3E8CC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8906-EAE3-4E70-90D8-3F37B697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7BCC-204D-4DE5-8E28-2EABD6E3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5532-5342-4267-811C-AAFDCAD0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0129-603C-47B0-B799-921D6B4F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241F-DC0F-431F-A9CA-4F0FAFF0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DAAEF1-8CDA-4F18-802A-861D09C7DA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