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54479"/>
        <c:axId val="96136"/>
      </c:barChart>
      <c:catAx>
        <c:axId val="11354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36"/>
        <c:crosses val="autoZero"/>
        <c:auto val="1"/>
        <c:lblAlgn val="ctr"/>
        <c:lblOffset val="100"/>
        <c:noMultiLvlLbl val="0"/>
      </c:catAx>
      <c:valAx>
        <c:axId val="96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54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FB7-10F1-4304-8E38-C15CDF25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C5A-6553-47D7-AA31-F69E3FC9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BE5-FBDD-4CAA-AB93-EF0709BD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8CE-CE28-4137-A9C1-1EAFDCE8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9F5-0FE7-4A30-87DB-ACDB295A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409-F5C3-43BF-8631-C22957E3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3EC-313E-4B80-A98C-8A1D3815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673-F142-4888-B80C-1BB7FE3F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B29-5731-439C-926A-BB8249FB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F18-B2EE-4F8F-8E70-34F6CA9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6E3-603E-43D6-8328-F359D874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B30-1CF6-4147-BC78-1D036EB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93E34-8AA1-4E1B-8762-000ADCE392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