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00011"/>
        <c:axId val="12770334"/>
      </c:barChart>
      <c:catAx>
        <c:axId val="79400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70334"/>
        <c:crosses val="autoZero"/>
        <c:auto val="1"/>
        <c:lblAlgn val="ctr"/>
        <c:lblOffset val="100"/>
        <c:noMultiLvlLbl val="0"/>
      </c:catAx>
      <c:valAx>
        <c:axId val="12770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00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112-3A96-4701-AE8F-9B07AE9C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69B-4B6A-4160-8948-C648151E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BD4-33C8-49DB-A82E-FA5BD614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440-150F-4896-87BB-D7C05E1F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145-E69D-44C1-B00D-296B5B09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794-6BC9-4787-A34D-42718774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BAD-2A5B-4493-93BA-D2AC7BBA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B51-5FA8-4B6D-935C-3D8513ED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FE2-0EC3-47A3-9FF5-9D37BBB6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B01-7625-49D0-A0DF-7D5F1A38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C8A-60E7-4ACE-A8DD-8CF5EA18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E64-DDED-4B32-A87B-480BBF4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E4E65-C82B-4E3A-9A01-4DEB2EF2F7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