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112585"/>
        <c:axId val="79801604"/>
      </c:barChart>
      <c:catAx>
        <c:axId val="261125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01604"/>
        <c:crosses val="autoZero"/>
        <c:auto val="1"/>
        <c:lblAlgn val="ctr"/>
        <c:lblOffset val="100"/>
        <c:noMultiLvlLbl val="0"/>
      </c:catAx>
      <c:valAx>
        <c:axId val="798016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125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9167-8E0D-44C4-816B-FED13A130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48F5-01C2-4457-A660-5AFC98DE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1C36-E08B-4BB0-ADF3-9D6616B7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7886-87AC-46A7-B31B-94FD2134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41B8-721E-457E-8F17-B719A783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DC7D-96E1-4B8E-99DC-C657674C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BC9D-1705-4922-875E-07FF84AD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7008-308A-403A-890F-344D91E0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069D-6A5D-42D0-A72D-E19DD150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EDCC-4FD0-413B-BFCB-32A85A84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0CA0-647E-4C52-9F30-4FC77E72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752C-6F52-4E71-BC60-173EA35F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4CE13-737A-4911-8323-5C21BFD840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