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51827"/>
        <c:axId val="21175283"/>
      </c:barChart>
      <c:catAx>
        <c:axId val="43651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75283"/>
        <c:crosses val="autoZero"/>
        <c:auto val="1"/>
        <c:lblAlgn val="ctr"/>
        <c:lblOffset val="100"/>
        <c:noMultiLvlLbl val="0"/>
      </c:catAx>
      <c:valAx>
        <c:axId val="21175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51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AA8-1572-409D-AEDB-4A786643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10C-65F1-4129-9585-1C4BF10E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7AE-5710-4C0B-8545-CC945F48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179-04B9-4618-8252-2A3719CB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181-D674-4A04-9694-8AE5A383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7A8-518E-4652-8AF0-C9EF235E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483-F7F8-46CB-A560-D52B16AF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65D-566E-471F-A8B8-377CD417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171-DB7D-42AF-9423-00B8E09B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7EF-83F1-4749-8D5B-9FD70BC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947-02CC-4509-B1B7-C3FD822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56A-7948-4967-AB65-CBE42161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61A9B-1F53-4806-B033-EC783EF93B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