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46791"/>
        <c:axId val="17784688"/>
      </c:barChart>
      <c:catAx>
        <c:axId val="33846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84688"/>
        <c:crosses val="autoZero"/>
        <c:auto val="1"/>
        <c:lblAlgn val="ctr"/>
        <c:lblOffset val="100"/>
        <c:noMultiLvlLbl val="0"/>
      </c:catAx>
      <c:valAx>
        <c:axId val="17784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46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866-0A66-4B2A-8416-939581C1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F0E-686B-4302-BCBC-6F77A1A4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D3C-8873-440A-B67A-77526055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B17-270A-4F02-BAC1-980202DE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780-19C5-4379-8CFD-25E1C0F3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F8B-2745-4282-860F-C9A59090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C2A-0BF8-4705-BEBB-3DB38752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4BF-CF58-4610-89EC-D27D5E77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91A-DA5A-4357-937F-64D2535F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B60-DE99-44DE-9466-5DC2864E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75B-5753-41D7-BA55-4395FED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4A4-451A-47E0-A304-BD99EA2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8B5DE-43DC-47CB-B23E-7F11C21107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