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41151"/>
        <c:axId val="47927947"/>
      </c:barChart>
      <c:catAx>
        <c:axId val="12241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27947"/>
        <c:crosses val="autoZero"/>
        <c:auto val="1"/>
        <c:lblAlgn val="ctr"/>
        <c:lblOffset val="100"/>
        <c:noMultiLvlLbl val="0"/>
      </c:catAx>
      <c:valAx>
        <c:axId val="47927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41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58E-464A-4C0C-925C-3CBB2976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D2D-A32D-49F9-BEED-5FFC5006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FE5-0F79-4989-B6A0-FCFE7F5A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AE2-CB15-41A3-9954-7B24E3F2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896-5C88-4E72-BEB0-73CDA4E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827-E77D-442A-B766-0FEA528B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549-4038-4FF4-B71C-FE11C7C3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D76-5D84-4F9A-B91E-6B09EC0B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982-C1F1-4F7A-8A22-D02B6AE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4A6-2148-444C-A7EA-EF03259D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775-3F20-454F-831A-9C42B7C1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56A-553E-43B8-B293-AA65F06A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5C4C2-9364-478A-82A7-E7BD86E033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