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674009"/>
        <c:axId val="96667557"/>
      </c:barChart>
      <c:catAx>
        <c:axId val="966740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67557"/>
        <c:crosses val="autoZero"/>
        <c:auto val="1"/>
        <c:lblAlgn val="ctr"/>
        <c:lblOffset val="100"/>
        <c:noMultiLvlLbl val="0"/>
      </c:catAx>
      <c:valAx>
        <c:axId val="966675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740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05B1-A1B5-4ACD-B07F-4A22A99B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405A-A943-4759-BC75-1F9A933D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6B78-618F-4FFB-9BE2-6D4DE47D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8FD8-5421-4323-80A7-50198B94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03DD-1008-4E03-8073-348F1299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65E5-812E-49E2-BDFB-ED4BFFFA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C0F7-C1DC-4CCE-A784-9A3A1D4F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3BB9-8164-4532-8794-ECFBE8BD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CAC5-AE3A-465F-A01B-B23ACAB2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EE73-8AFB-4D5C-BF13-C6F3073A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7394-D287-4A7B-B664-00DC8463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61E8-B415-4D48-B20C-98BAA933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2E88A-1404-4314-B67F-FF80BBB142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