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64235"/>
        <c:axId val="32154971"/>
      </c:barChart>
      <c:catAx>
        <c:axId val="337642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54971"/>
        <c:crosses val="autoZero"/>
        <c:auto val="1"/>
        <c:lblAlgn val="ctr"/>
        <c:lblOffset val="100"/>
        <c:noMultiLvlLbl val="0"/>
      </c:catAx>
      <c:valAx>
        <c:axId val="32154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642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372-BCDC-4703-988E-66C47C50F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636-4DC9-4E37-8CC9-AC6EEDAB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49C-8DE1-4525-B664-970C1290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EBB-CA86-4F86-A8DE-672AE7A9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A2C-363C-46CC-970C-7C9813EF6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E09-3A26-4722-9774-45656347E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7B8-2ADC-43CC-8C7C-979454E9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C928-AA3D-4351-BF6B-4ED24A57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C313-F748-4B8D-B06F-19F5DCBA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E68C-2D71-4DC3-90B9-3AB32E47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6CB3-1E0E-4975-9FAF-4A94891C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AEF4-9691-4593-840A-6807819D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D000C0-E061-4AE1-B0DE-EC4DC43461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