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78153"/>
        <c:axId val="90037066"/>
      </c:barChart>
      <c:catAx>
        <c:axId val="80778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37066"/>
        <c:crosses val="autoZero"/>
        <c:auto val="1"/>
        <c:lblAlgn val="ctr"/>
        <c:lblOffset val="100"/>
        <c:noMultiLvlLbl val="0"/>
      </c:catAx>
      <c:valAx>
        <c:axId val="90037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78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121-5671-485E-A204-A7DFE2CF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85A-A792-4BCD-8F85-9E6FDB32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94D-7C98-4E0A-A10C-D9B499A2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446-0F04-4AD6-984A-BB67D5D0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DBD-F538-4778-B84E-E5C33BC8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CA3-1D58-436D-A10D-67E99C41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992-2646-4479-B6A5-14A9B11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C26-F3EF-4EE6-8391-E4D33533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5E5-BA59-4351-A84F-6FB9D88D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1D6-474E-4F64-83B6-894BF776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2B8-883C-4681-A7AF-76C1B87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387-B9A3-4B43-BD55-8AC6A4C0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1B505-8FCF-4CF4-A105-55DF220E6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