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390039"/>
        <c:axId val="75973728"/>
      </c:barChart>
      <c:catAx>
        <c:axId val="27390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73728"/>
        <c:crosses val="autoZero"/>
        <c:auto val="1"/>
        <c:lblAlgn val="ctr"/>
        <c:lblOffset val="100"/>
        <c:noMultiLvlLbl val="0"/>
      </c:catAx>
      <c:valAx>
        <c:axId val="759737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90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05E9-2310-4675-B18C-E32D10F47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402-934A-413D-8BA6-4F460A1C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FFD1-FE2D-43D4-8CA6-CDEE85F2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A11-43EC-4010-9190-D4FEFF580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867-E88E-4595-A89C-525222EF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E1D3-1519-485F-A453-AC3B013D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0CCC-3CC0-436C-8DD1-710E72DB0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FBEB-1CD4-4C81-B13E-F0BD1CE6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5AE-2045-4736-9EE0-367D790A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4960-6DD2-41D2-8C6A-140A7569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4D5-BCE5-4F90-A536-B313C0FC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42C-8A5C-4033-90DB-3ED55F0A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C7A41-794B-46E3-96F5-E382FBF650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