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44471"/>
        <c:axId val="19738909"/>
      </c:barChart>
      <c:catAx>
        <c:axId val="11344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38909"/>
        <c:crosses val="autoZero"/>
        <c:auto val="1"/>
        <c:lblAlgn val="ctr"/>
        <c:lblOffset val="100"/>
        <c:noMultiLvlLbl val="0"/>
      </c:catAx>
      <c:valAx>
        <c:axId val="19738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44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99B-3476-4257-AFF2-6B503A19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083-B4D2-4050-B7F0-CEF34F4D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9E7-D29E-4081-866C-5739B5BA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193-7507-4096-BB68-8F401224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D07-1BD1-4218-BF6C-F10243E2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0D1-E5EF-45FB-A7BB-A7B33B44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F6B-8037-486F-A9D8-F66BAB34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7FE-7E37-4549-A5E3-07B29607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4E6-BDF2-427F-9F1C-71441D94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C4F-DDBF-40AC-95DE-56AFAF1B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748-6DF9-4583-9A9B-37BB1A2E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0EE-8CBB-4975-AFF4-E627BC62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9B2B4-28D2-429D-9960-D2235EB5AE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