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21322"/>
        <c:axId val="88049063"/>
      </c:barChart>
      <c:catAx>
        <c:axId val="33421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49063"/>
        <c:crosses val="autoZero"/>
        <c:auto val="1"/>
        <c:lblAlgn val="ctr"/>
        <c:lblOffset val="100"/>
        <c:noMultiLvlLbl val="0"/>
      </c:catAx>
      <c:valAx>
        <c:axId val="88049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21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1BE-CB93-4E08-96EF-482FC53C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524-7DB7-469F-9BDC-8E109FC8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20FD-49C4-4C50-B6A0-7754CC64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51F-80A7-4664-85AB-F6713675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3AD-1F95-4E16-849E-270597B5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866-6736-4E80-8873-35BD92BC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569-15C1-4044-9480-C60BB14E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158-2E21-4A7B-91D3-4F13FB63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4F4-9BAC-4936-89B5-1476AA0D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B04-D883-4213-8641-DA2F5D82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A33-B214-4F65-B078-DF7BB31D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901-9834-4DCF-B698-61B1C34D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D2295-9FDB-4B91-A3D4-2A4474D3F1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