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29099"/>
        <c:axId val="32360801"/>
      </c:barChart>
      <c:catAx>
        <c:axId val="807290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60801"/>
        <c:crosses val="autoZero"/>
        <c:auto val="1"/>
        <c:lblAlgn val="ctr"/>
        <c:lblOffset val="100"/>
        <c:noMultiLvlLbl val="0"/>
      </c:catAx>
      <c:valAx>
        <c:axId val="32360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290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9B8-20E1-49CA-A0F7-0062D3FA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1BE-0160-43A6-BF19-C1E38DFC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1D0-BF8E-4EC1-BF27-E41FF622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4D6-207A-4A05-B64F-5F9BB684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D88-3AD2-49D9-8A93-4527262C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8C3-0D23-4CA7-B9D0-2F248A0B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31E-3CBB-4FD6-91A7-E6CA0859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4EE-A3C4-4889-AFF0-B83A8BC4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F9F-5FE2-4231-AD15-7E5817A2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435-F479-4B7E-B56D-33664C07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A0B-D292-42FB-B573-A626B030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CF8-9772-4936-897D-CEE457BB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FE52B-82DB-481A-8BF0-1DA4DC5F5A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