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0065327"/>
        <c:axId val="39866773"/>
      </c:barChart>
      <c:catAx>
        <c:axId val="1006532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66773"/>
        <c:crosses val="autoZero"/>
        <c:auto val="1"/>
        <c:lblAlgn val="ctr"/>
        <c:lblOffset val="100"/>
        <c:noMultiLvlLbl val="0"/>
      </c:catAx>
      <c:valAx>
        <c:axId val="398667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006532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16026-8DFA-41D3-A855-1506A0E97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4D9C6-B141-4B36-83F7-86B45D23A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7D553-3338-47AF-B0AC-EF120E348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0165A-C1DB-49AE-92E3-39B9E2998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2796-AB0D-43A6-B7D7-D2C0EC914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46AB9-722C-4A77-B39A-8D900F6F6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A0EA8-8542-4BD6-AAB6-564B099ED3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63060-080F-48E5-AE36-5FB8F2D78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EBECE-E13A-46C1-82C7-7211F471A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1BCB8-8688-44F1-94FC-FAEF253FD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763F-8292-40D8-8FC4-791AF1291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457CC-626F-4480-843B-55CAD052F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85F7CC-55E2-4B58-BD7C-0073BC064B4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