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27859"/>
        <c:axId val="95821978"/>
      </c:barChart>
      <c:catAx>
        <c:axId val="17627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1978"/>
        <c:crosses val="autoZero"/>
        <c:auto val="1"/>
        <c:lblAlgn val="ctr"/>
        <c:lblOffset val="100"/>
        <c:noMultiLvlLbl val="0"/>
      </c:catAx>
      <c:valAx>
        <c:axId val="95821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27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5E5-C010-4437-B1B9-A91036F0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D7B-B495-499A-826B-561FD8C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455-4EE8-4B71-8541-E497714B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27A-1991-49DA-B68B-DB768F0C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FB9-8C35-4D52-8A66-90FC27F0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36D-8C67-4EE4-A9D3-388FB247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1AA-743B-465B-B0E8-C52E278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8D4-7E2B-4738-A54C-0B75417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4D3-2DEB-459A-9DB2-C2B5D5FE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3AA-34F4-4BDF-BEC1-93DD8D1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960-2499-4B8D-8BB8-772EBB0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524-E771-4CDC-B48A-25B7540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0617-8A84-4EBB-B07C-83AEBA801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