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58881"/>
        <c:axId val="78790574"/>
      </c:barChart>
      <c:catAx>
        <c:axId val="76158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90574"/>
        <c:crosses val="autoZero"/>
        <c:auto val="1"/>
        <c:lblAlgn val="ctr"/>
        <c:lblOffset val="100"/>
        <c:noMultiLvlLbl val="0"/>
      </c:catAx>
      <c:valAx>
        <c:axId val="78790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58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5B0-9745-4B5F-92FB-75A25827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7BE-A09D-4C62-BA3A-0E115666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8B2-EBF2-4DD3-8596-A42FDD2F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271-56A0-4535-970F-5C10D037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660-1DDD-437E-B210-94009FF1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A42-7CBE-4825-B3BD-E3C10262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5AA-29A6-43BF-AE96-782FAAE4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2AE-882A-4D70-93AE-01DE451D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BC6-FD61-436E-B29C-BB8C51A8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C0A-CD40-4E86-8D6C-AA939493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DE2-21DF-4DDF-B355-8A649AF2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45C-B397-4225-9C45-6B830D44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41629-C13C-4906-9061-DF5C6C38FC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