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89951"/>
        <c:axId val="53078139"/>
      </c:barChart>
      <c:catAx>
        <c:axId val="68989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78139"/>
        <c:crosses val="autoZero"/>
        <c:auto val="1"/>
        <c:lblAlgn val="ctr"/>
        <c:lblOffset val="100"/>
        <c:noMultiLvlLbl val="0"/>
      </c:catAx>
      <c:valAx>
        <c:axId val="53078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89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43A-7A46-4BE9-8F5C-0B4AF75F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585-01A1-4C10-867E-E574538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72-6715-422F-8262-67FA805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F12-C212-4E0E-8983-015AD56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CB7-AA22-42F0-A10F-BDD69ECC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471-D92C-4F96-B7F0-91BCB93D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4CF-9706-4C77-90CD-E9484E4D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136-A39B-48FB-BB9B-B776366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3F9-A726-480E-865C-1DA8E06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018-B1AE-4059-8619-794059A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FF1-3FB3-4D70-8530-77AA831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213-DE1D-4A27-AE41-83DAA29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4703-B0FB-4AFB-83EC-CD4A8C1C74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