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56158"/>
        <c:axId val="69410528"/>
      </c:barChart>
      <c:catAx>
        <c:axId val="42356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10528"/>
        <c:crosses val="autoZero"/>
        <c:auto val="1"/>
        <c:lblAlgn val="ctr"/>
        <c:lblOffset val="100"/>
        <c:noMultiLvlLbl val="0"/>
      </c:catAx>
      <c:valAx>
        <c:axId val="69410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56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E44-1130-43FE-9BB2-C76DADA0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1D02-88D0-4D32-9F58-5C2DBB91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3E1-7FA6-4490-B38B-B7DED74F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85E0-3BDC-49FE-84B4-8F175D2C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8C34-7CD1-471D-87CE-138A00BF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814-F53A-4078-AA16-DD820363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1B4C-F9BA-43FC-A7BE-685B1B24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7BC6-8A3F-4C68-84BD-7C2C37F7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C74-EA7B-4376-BF01-FA45CB84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CF73-D2F0-4DB7-9915-43F0C458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1E6-E394-42F8-ABEB-100A2E88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855-8337-4F5B-816E-1E3BF492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47C18-CE30-43C2-B6AA-FF411AB832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