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573432"/>
        <c:axId val="36091576"/>
      </c:barChart>
      <c:catAx>
        <c:axId val="815734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91576"/>
        <c:crosses val="autoZero"/>
        <c:auto val="1"/>
        <c:lblAlgn val="ctr"/>
        <c:lblOffset val="100"/>
        <c:noMultiLvlLbl val="0"/>
      </c:catAx>
      <c:valAx>
        <c:axId val="360915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5734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DDC7-DA8B-49C4-BF9D-81741C41E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2C1E-7379-4343-93ED-20BC238F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6EAB-A3DB-45ED-A8AE-B443CDADE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87BE-055B-4F94-B2F2-158DBEBDB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AB71-DC52-45AC-B060-231A62A3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8E15-040B-4217-B39B-712C14AB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B289-3BF4-49E3-B171-340BE6AC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6A87-5842-4DA1-AF35-27F18F78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D7BC-403A-4A05-96DF-BF208780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B626-13DD-44BA-862A-AA1281DF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8E4D-6CD7-4BC0-88A7-E1C51400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D550-8B6F-45C7-9DC1-817BEC58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088AA-03B9-40DA-ADCC-23E345CC61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