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65548"/>
        <c:axId val="75557874"/>
      </c:barChart>
      <c:catAx>
        <c:axId val="39365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57874"/>
        <c:crosses val="autoZero"/>
        <c:auto val="1"/>
        <c:lblAlgn val="ctr"/>
        <c:lblOffset val="100"/>
        <c:noMultiLvlLbl val="0"/>
      </c:catAx>
      <c:valAx>
        <c:axId val="75557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65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906-C3C7-4D78-9D61-C8DA2E76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587-62F4-4666-9D45-64C8B82C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B46-7A0C-429B-88C9-0AA38B45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011-60DD-412C-9E75-0C63E808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123-9976-414E-91BE-9D4315C7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C12-1E9A-4E46-AB21-0309C592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A12-30FE-4671-8F11-A20CFC01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8CF-4DEE-4A89-9432-B6BE8C97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AEC-4D39-4914-8EF3-E8126960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120-ACA7-49DD-BBD7-E83C7AE4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69A-52D0-46A4-88AF-536652EB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F97-0064-448A-AC55-91C353C4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37C2C-0D70-446A-BDB6-0D2E855095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