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17336"/>
        <c:axId val="79275948"/>
      </c:barChart>
      <c:catAx>
        <c:axId val="56217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75948"/>
        <c:crosses val="autoZero"/>
        <c:auto val="1"/>
        <c:lblAlgn val="ctr"/>
        <c:lblOffset val="100"/>
        <c:noMultiLvlLbl val="0"/>
      </c:catAx>
      <c:valAx>
        <c:axId val="792759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17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BD18-12F9-4E0D-A984-240F6FE8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81F0-48A2-404F-8B7D-EDB6573A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0781-2A17-4FDD-81D3-AB21C947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F88A-30B1-4B78-87D2-4BD79D8E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3AB-5A9F-4A86-A1A0-1300CA6D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ACD-5981-4FD6-B624-1035CD4D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716F-D881-4204-A12E-2286D958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5CD0-DF54-42A2-834D-D59402DD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3BC7-9A55-4F5E-8392-A81B69C0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9FA6-F886-4729-BDE5-7FD4E2E2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6AD-7428-49D7-A27C-E9C49DE6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181B-899A-4BBE-819D-592D05EF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52897-9E48-4923-BDB1-9224AC5496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