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02153"/>
        <c:axId val="61618649"/>
      </c:barChart>
      <c:catAx>
        <c:axId val="11002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18649"/>
        <c:crosses val="autoZero"/>
        <c:auto val="1"/>
        <c:lblAlgn val="ctr"/>
        <c:lblOffset val="100"/>
        <c:noMultiLvlLbl val="0"/>
      </c:catAx>
      <c:valAx>
        <c:axId val="61618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02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9D2-D211-4F15-AC30-2B0D4F78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4D9-E4EA-42AB-9E81-97057B97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E58-F2CF-4D71-9C7D-169CD537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80FA-BABD-46EE-A61A-DE14734F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629-54C8-4916-97B2-51121CAC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9CD7-C70A-47F2-9879-D4F9DCF2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00D-F2AC-448B-84F9-F9645BA9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C32-3C48-4BE3-912C-4CA8DD40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9F2-2655-4AA9-90F1-6F322E03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31C3-07CB-42F1-9E78-26C1E06A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E40-1BDA-4ACE-B171-0C386881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FD4-0605-4CB0-B46D-87A71E03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5178D-9D24-4818-97DC-197A687CC0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