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19242"/>
        <c:axId val="44197495"/>
      </c:barChart>
      <c:catAx>
        <c:axId val="70719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97495"/>
        <c:crosses val="autoZero"/>
        <c:auto val="1"/>
        <c:lblAlgn val="ctr"/>
        <c:lblOffset val="100"/>
        <c:noMultiLvlLbl val="0"/>
      </c:catAx>
      <c:valAx>
        <c:axId val="44197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19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7E8-0930-4E7E-BB87-1619958D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420-45A8-484C-95A4-9BAFE8A7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51E-DAD7-46D0-928B-AC0008DF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641-6921-4365-8A17-B3EA70AC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B74-693B-4066-AC90-0AF34CFF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B13-B6C7-422B-8235-BA3D1D2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1B8-028F-4241-9F98-5926FE22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4BC-CC82-49A1-AAEE-A0E8961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7C4-D016-46D9-9DEF-5150650E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BBD-B9EA-4205-B605-A74763B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611-E466-4D97-9CB1-DEE448E4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15C-51F3-4DF4-A2E2-6E35044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5AC36-3C29-496B-B99B-9CE306BBD8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