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48993"/>
        <c:axId val="84211467"/>
      </c:barChart>
      <c:catAx>
        <c:axId val="20048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11467"/>
        <c:crosses val="autoZero"/>
        <c:auto val="1"/>
        <c:lblAlgn val="ctr"/>
        <c:lblOffset val="100"/>
        <c:noMultiLvlLbl val="0"/>
      </c:catAx>
      <c:valAx>
        <c:axId val="84211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48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2D2-2C9B-49AF-AB66-3D358626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4A1-A878-412A-8D69-4FC88D66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65A-C6DC-4558-B3C8-7825A78A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D50-C265-4824-B3D4-C9B839C0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37E-F703-4901-896B-4F524B95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025-2784-4792-814F-3F1E4B82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9B4-E54E-452F-B5BC-D909CAFD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F55-86AD-485E-A403-BD4E0EB7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4B9-59E3-41F3-A789-83EA2AF5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AAD-9303-44D4-BD57-16557285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010-4825-44E3-B974-2F30D9EB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7EB-AFF0-4887-86FC-C0272B1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B6CDA-25AF-4669-ACF7-CDAB9C6C2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