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08521"/>
        <c:axId val="32507643"/>
      </c:barChart>
      <c:catAx>
        <c:axId val="45408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07643"/>
        <c:crosses val="autoZero"/>
        <c:auto val="1"/>
        <c:lblAlgn val="ctr"/>
        <c:lblOffset val="100"/>
        <c:noMultiLvlLbl val="0"/>
      </c:catAx>
      <c:valAx>
        <c:axId val="32507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08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782-85C0-48F5-A7DA-B9F95822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9330-B7EF-461A-96DE-E0F13E01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AF93-A776-473C-BB0E-EADDE385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D9B-E1F2-4149-ADAB-D33EADD3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3F6-D999-4357-83CE-9C9ED42A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A2E-972B-4E33-BE51-BE990EC2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BB7-7B85-4AA3-8647-13A0B60B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766-0C9F-4F3B-9231-B4796067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82D-5FB0-41F3-82FD-3B62C12E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DF26-0AC7-4483-9312-7556EFBA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C3F-50F0-4DC4-85B6-61777649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63A-19FC-4788-AEB3-2E07E696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EF65E-981E-4C8E-9DD2-9F79BD1C3F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