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853233"/>
        <c:axId val="15316140"/>
      </c:barChart>
      <c:catAx>
        <c:axId val="868532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316140"/>
        <c:crosses val="autoZero"/>
        <c:auto val="1"/>
        <c:lblAlgn val="ctr"/>
        <c:lblOffset val="100"/>
        <c:noMultiLvlLbl val="0"/>
      </c:catAx>
      <c:valAx>
        <c:axId val="153161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8532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E68A-6C31-4B9C-A8F5-C0752476E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5DBD-BF5A-45C5-B6C8-60C3A78E5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CD29-BDE5-4585-849A-9B11872EF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C094-30BE-466A-912A-3A8B390D1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9047-3BEB-4961-B4FB-5EDC7E840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A379-6DFB-4496-8041-82629B2DC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5078-330F-4229-B717-E6D0B3C83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0A7D-6655-43BE-BA02-02CF93A65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07B3-DAFF-49F5-BA0D-BA29A6753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A56D-3B20-48CF-BC69-BC315A87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5B61-8650-413C-B374-33E5E41B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400A-A295-4942-ACFB-35387E95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CB52FD-3371-4080-AD96-B30C059C0FE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