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69100"/>
        <c:axId val="21138454"/>
      </c:barChart>
      <c:catAx>
        <c:axId val="64569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8454"/>
        <c:crosses val="autoZero"/>
        <c:auto val="1"/>
        <c:lblAlgn val="ctr"/>
        <c:lblOffset val="100"/>
        <c:noMultiLvlLbl val="0"/>
      </c:catAx>
      <c:valAx>
        <c:axId val="21138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69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C09-55D3-4599-9E85-F45DB391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C70-05B8-44C0-8422-B20D2B9B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E12-D881-494C-B79B-01024202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CC7-E170-4BEE-9799-1E3A399C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5BA-5143-4ECE-B41A-5668A684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199-C357-41D7-93DB-D3255EFB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CEF-5E7B-484F-9107-56F78F42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6A4-406B-45FA-844D-7B4645A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6A1-CEA4-496F-B3D0-D5F11FE0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181-8265-49FA-921F-B0A99AF4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AFA-CE9B-47B4-8D53-791158D8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4C4-A9EA-4B2E-BE83-79F4D67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7174C-8E81-437E-8350-08A2CEDD6A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