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94404"/>
        <c:axId val="64903118"/>
      </c:barChart>
      <c:catAx>
        <c:axId val="50094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03118"/>
        <c:crosses val="autoZero"/>
        <c:auto val="1"/>
        <c:lblAlgn val="ctr"/>
        <c:lblOffset val="100"/>
        <c:noMultiLvlLbl val="0"/>
      </c:catAx>
      <c:valAx>
        <c:axId val="64903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94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88B-6872-472D-B1B7-62318F1B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194-369F-43D3-9ADB-B418A69D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7B8-C4EC-4B53-91D3-9E277DBC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8F4-CE3F-4F8B-BE0F-6A379320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6CE-E6FA-469D-B5B5-F164F18B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CEF-41F9-4FAA-A6EF-520F4500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0CE-9C5C-4A6A-87C5-AF059E6C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B6D-7C10-45B1-AF9E-C1319592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4C2-284E-4BB0-8BD2-2F979883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ED3-AB8B-4D3D-A937-E5AAE493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71D-77C7-4DAE-A7A1-EB2C7ED2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810-F34B-4D2E-A496-1595B38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7F5EF-9465-42BC-B8E5-7A991A412A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