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88052"/>
        <c:axId val="22303584"/>
      </c:barChart>
      <c:catAx>
        <c:axId val="71488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03584"/>
        <c:crosses val="autoZero"/>
        <c:auto val="1"/>
        <c:lblAlgn val="ctr"/>
        <c:lblOffset val="100"/>
        <c:noMultiLvlLbl val="0"/>
      </c:catAx>
      <c:valAx>
        <c:axId val="22303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88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A710-F007-49FB-9EDF-914031F6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72D-E018-4E52-B5C0-4BC15DC8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A078-D1D1-4360-896B-237FEED8C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82D2-367D-40EB-9B6A-14B60A14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2AE-00A2-448A-AECF-3D681665C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33B-246B-4998-BE7A-0E7179D6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02B-EA26-4292-94A6-7269A6C8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C5E-2ED1-41DC-9BD1-C4C5915C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8025-6F53-444F-B3D3-59E46E43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B6E-DAF2-4433-B2CF-202D88A4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47AF-E051-4738-979C-C18FDBFC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DFB-5174-4A89-948E-F1956102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EE7D4-F235-41B7-A0AE-6A872912F6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