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0696515"/>
        <c:axId val="93315599"/>
      </c:barChart>
      <c:catAx>
        <c:axId val="6069651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315599"/>
        <c:crosses val="autoZero"/>
        <c:auto val="1"/>
        <c:lblAlgn val="ctr"/>
        <c:lblOffset val="100"/>
        <c:noMultiLvlLbl val="0"/>
      </c:catAx>
      <c:valAx>
        <c:axId val="9331559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69651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6F53F-E095-427F-9461-80862C2B4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FAF80-8B0B-4D0A-985D-F98B4D9E6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08DBC-EDC6-4A0E-95BD-224D34494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5B962-BF18-42B4-8FCA-2DD33855C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AFA0B-7534-4015-8B6F-B2FE57E34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7A848-34BA-4D80-9744-EFD8737D9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3844E-C734-4CE9-AA0D-0A817DFF6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C88B0-16D7-4EB2-81EC-6FE46065C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8B1F5-218B-42DB-AF89-7FEEF1616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DC353-FF2C-42C4-9186-8D7AABD20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92289-3149-4A87-B03D-48E0449D4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BBA50-5DA2-4ED5-8AE4-4B0C0205A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AB4EC5-BB48-4078-A8C4-AB76DC37CBD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