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46912"/>
        <c:axId val="81946281"/>
      </c:barChart>
      <c:catAx>
        <c:axId val="96146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46281"/>
        <c:crosses val="autoZero"/>
        <c:auto val="1"/>
        <c:lblAlgn val="ctr"/>
        <c:lblOffset val="100"/>
        <c:noMultiLvlLbl val="0"/>
      </c:catAx>
      <c:valAx>
        <c:axId val="81946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46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52C-25B8-4881-BB16-DB81BFB8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765-C4C7-4B63-9F06-827B41E5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DC3-99F8-452C-8D5F-5B4744BC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7A6-2CDD-4FB6-AF40-9B37948C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DF1-F0CB-4976-A57C-52E6CC48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F01-D8DC-4562-8CE7-D82D841E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441-8EB5-4998-935D-97809BEA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B28-58C3-4873-87E5-45C9D2BE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7CD-902B-4E12-98A7-410802CE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FDB-76BF-4D3F-9CF3-5A0DFAD3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779-DB10-4044-A7B1-3BEDABAC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8A3-0E1B-4B82-B700-66B67AF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A31A0-B986-45B4-875F-DFDA06DC88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