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331223"/>
        <c:axId val="23396037"/>
      </c:barChart>
      <c:catAx>
        <c:axId val="153312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396037"/>
        <c:crosses val="autoZero"/>
        <c:auto val="1"/>
        <c:lblAlgn val="ctr"/>
        <c:lblOffset val="100"/>
        <c:noMultiLvlLbl val="0"/>
      </c:catAx>
      <c:valAx>
        <c:axId val="233960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3312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33C1-19E3-4E1B-A2C4-30191852D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9F19-B9F6-4B34-AB3A-289DA605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7E2A-360C-4AB1-82EA-C72E11F0E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5C53-03C2-4550-A979-0803DCB80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4641-882E-4CD0-BB27-2AF776F34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9348-200A-4257-9E74-AF9F90A4F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339F-0209-4B9E-B359-EC09EBA08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AEA7-1FF5-4777-BF6F-9FBF1C85A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3759-9D94-4A17-900F-48A85259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8DA2-4CEE-4CFF-9513-4C3AAE60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C063-7821-447A-BECE-4D9856A8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B8F3-9A92-498B-9CFB-301FD307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EB5190-3D71-4B5F-9A8C-787B97BB71A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