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35174"/>
        <c:axId val="39430220"/>
      </c:barChart>
      <c:catAx>
        <c:axId val="35735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30220"/>
        <c:crosses val="autoZero"/>
        <c:auto val="1"/>
        <c:lblAlgn val="ctr"/>
        <c:lblOffset val="100"/>
        <c:noMultiLvlLbl val="0"/>
      </c:catAx>
      <c:valAx>
        <c:axId val="39430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35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165-02D6-4889-8C11-BF8219D1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AADB-E8A3-4D99-95F5-F63FDC92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069C-D182-4B61-835A-F71C7A98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076-8B57-4EF0-AB84-4E0E7FDF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448-8294-4545-9459-051653D0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691-5201-4741-8392-382B55FD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E5A-CF01-4386-ABD1-8F6662F6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5BAC-4F4A-424C-9982-177243CF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0ED-09A6-4D1A-A153-3461AE1A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867-2BAD-4C0D-B603-0E44A9CA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08A5-D57E-43AD-BBC0-DF8295D7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E32-DE42-4043-837A-644EF86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389D2-9712-4A89-A022-4C968E2027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