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13479"/>
        <c:axId val="45360417"/>
      </c:barChart>
      <c:catAx>
        <c:axId val="96313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0417"/>
        <c:crosses val="autoZero"/>
        <c:auto val="1"/>
        <c:lblAlgn val="ctr"/>
        <c:lblOffset val="100"/>
        <c:noMultiLvlLbl val="0"/>
      </c:catAx>
      <c:valAx>
        <c:axId val="45360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13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1EA-805A-4155-80CE-240E5D32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BCF-1C9B-4654-A509-BE398981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97A-6A15-4F2A-8F56-A9943EF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E97-2B8E-49B8-AEF3-3CF9A97E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561-EAD3-400B-872D-3406CD1A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A2F2-357B-4A19-9692-3D66B1DD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53C-9598-4E0A-AC79-9F6DA431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E74-3435-4C02-99C3-7005D374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D22-3FB6-4750-A430-607351BB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FB6-8978-4AF4-ADB1-A9A37315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E15-CA05-4081-8363-12AF35E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132-F1A4-4E15-BB32-1C0EE744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5C3A0-A02D-43D9-89CF-2098925E2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