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11638"/>
        <c:axId val="60657496"/>
      </c:barChart>
      <c:catAx>
        <c:axId val="26311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57496"/>
        <c:crosses val="autoZero"/>
        <c:auto val="1"/>
        <c:lblAlgn val="ctr"/>
        <c:lblOffset val="100"/>
        <c:noMultiLvlLbl val="0"/>
      </c:catAx>
      <c:valAx>
        <c:axId val="60657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11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26A-762A-4C9C-8F0A-B040DD9E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EAA-8C80-483B-883B-3F0D2D59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DE8-2940-4409-9614-5B48FA2A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E0C-186C-4185-9974-A87EC668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B78-27FC-4C66-9D16-0DFE6DD9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D4E-F62C-4298-8F75-1F0C8C78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811-09DA-4458-B6AC-537B1DED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FF3-01A5-44A1-AA75-FF80161F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F8C-A312-4372-82D3-8CFC62CE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CEE-1908-4DDF-8358-574306FE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C68-939D-4E52-BB90-E575CA55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70A-161C-460F-8255-BCD40A91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2846C-241D-48DF-9B86-21497318A2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