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145"/>
        <c:axId val="73391762"/>
      </c:barChart>
      <c:catAx>
        <c:axId val="2437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91762"/>
        <c:crosses val="autoZero"/>
        <c:auto val="1"/>
        <c:lblAlgn val="ctr"/>
        <c:lblOffset val="100"/>
        <c:noMultiLvlLbl val="0"/>
      </c:catAx>
      <c:valAx>
        <c:axId val="73391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029-96AD-4811-8916-9D47EDC5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BB5-9FB3-461C-B99A-643748A3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A85-A7BD-4177-901D-85B616FA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B10-3BFC-4099-91C9-0644F39C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82D-000D-496D-9CDD-A8487874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C9F-A67A-4F09-9471-18AB1BB6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5B9-EF89-4B01-A56C-E1917D71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0E8-BB0A-4934-B079-C034F3D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5DC-ED8F-4253-A857-B6E801EF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0E2-2C28-46AC-B671-B89D02A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A57-070A-4081-B7A8-942F3EB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529-EA40-40E2-9987-AB7B9D8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8981E-7D88-4A99-B213-BFB3C150DD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