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22287"/>
        <c:axId val="43446740"/>
      </c:barChart>
      <c:catAx>
        <c:axId val="38722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46740"/>
        <c:crosses val="autoZero"/>
        <c:auto val="1"/>
        <c:lblAlgn val="ctr"/>
        <c:lblOffset val="100"/>
        <c:noMultiLvlLbl val="0"/>
      </c:catAx>
      <c:valAx>
        <c:axId val="43446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22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D9C-E0EF-4506-8822-02B16A6C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C55F-FD1F-4D48-99B7-804FEC6A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936-724C-4435-8F8A-6BA3D322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3FE-59C4-4CDC-8205-D8DEDAD0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D23-AC21-458B-A006-249161C0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4D0-2872-4813-867C-7B74C8BF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26B-E6BB-4B9B-B1D8-BCBE7DE4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297-8B0A-4204-9735-2E33BB62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F7C-7BE8-4517-8120-3DD369B6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B093-296F-4084-8F31-819ADAF3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2A9D-9C05-400E-9F69-48330D4B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6FD-91A5-4817-B915-6AC6551C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D9906-4254-4074-87AA-466366FC90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