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26483"/>
        <c:axId val="24690768"/>
      </c:barChart>
      <c:catAx>
        <c:axId val="49626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90768"/>
        <c:crosses val="autoZero"/>
        <c:auto val="1"/>
        <c:lblAlgn val="ctr"/>
        <c:lblOffset val="100"/>
        <c:noMultiLvlLbl val="0"/>
      </c:catAx>
      <c:valAx>
        <c:axId val="24690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26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920-0752-4F68-9660-A86ADC25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FED-4466-42F6-9670-5563E760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191-8FE9-4430-AF2B-FCCD8AAC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C8B-27C8-4E75-B727-5FE5F0E3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E54-F919-4A77-8935-D7C778B8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58C-5E57-43B4-BE46-23B07928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EE4-22A6-4372-AC18-03771361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8EF-3C98-4105-A02B-897DAC73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348-353B-424A-9723-F91C6ABF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CB6-0DB3-47E6-8DB8-28DC4022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9CB-E924-4B3F-B926-6BCDAEC4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A2E-9AD0-47B2-AF31-C9FC0EB9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78B8E-73BC-4CD6-9887-0EA45E3F68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