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0085049"/>
        <c:axId val="53505639"/>
      </c:barChart>
      <c:catAx>
        <c:axId val="7008504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505639"/>
        <c:crosses val="autoZero"/>
        <c:auto val="1"/>
        <c:lblAlgn val="ctr"/>
        <c:lblOffset val="100"/>
        <c:noMultiLvlLbl val="0"/>
      </c:catAx>
      <c:valAx>
        <c:axId val="5350563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08504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9CA81-F7C6-4A40-AA04-F5DBDDEFA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2423F-1F08-4FA8-9D0D-C640FDEC8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2D3E6-F02E-4B9B-99BE-27BDAFEF7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C0B2A-6B32-4214-8EA0-11D8D8BF8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E5141-3E4D-4C1C-8C0E-CAD86D675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C2297-CEE3-4E99-A3EE-6CC8F1806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14B5C-095C-4F59-BAA4-5A67D78EF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AD151-B1E3-48AE-914B-8762878B8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57FEB-31CC-4282-9413-A46298029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B4CED-0782-407C-A86D-6462C1041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5654B-345C-465A-BE53-9DEE6A62B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244C2-BBC8-4D74-8B10-90E7031BC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646DD7-7FD9-45EE-9E00-C5A112E9396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