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42041"/>
        <c:axId val="99318254"/>
      </c:barChart>
      <c:catAx>
        <c:axId val="86642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18254"/>
        <c:crosses val="autoZero"/>
        <c:auto val="1"/>
        <c:lblAlgn val="ctr"/>
        <c:lblOffset val="100"/>
        <c:noMultiLvlLbl val="0"/>
      </c:catAx>
      <c:valAx>
        <c:axId val="99318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42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E1D-24C5-40FB-AFDA-549CECA1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FB5-6F4C-437E-90BC-F72BBD90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993-3E25-4614-8748-AA55DFA0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C72-3E3A-4887-ACF1-7BEDED6B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947-6246-4941-986C-E7E435BB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4D2-C3FD-4095-B8E4-45AF717E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D4B-8BA8-43BF-BFE2-CC71408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737-AA94-4768-8938-2C2BF20E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C68-DA94-4B10-8ACF-416F75B0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0F9-E7F3-4E23-84D3-115AB6D9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29C-EB5D-42A7-BFE8-261F646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DAB-2C96-44FB-9E97-881E1851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718F1-6519-492A-B502-F961855AB2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