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42990"/>
        <c:axId val="23055277"/>
      </c:barChart>
      <c:catAx>
        <c:axId val="94642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55277"/>
        <c:crosses val="autoZero"/>
        <c:auto val="1"/>
        <c:lblAlgn val="ctr"/>
        <c:lblOffset val="100"/>
        <c:noMultiLvlLbl val="0"/>
      </c:catAx>
      <c:valAx>
        <c:axId val="23055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42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947-A0A1-4753-8747-9530EAD2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1B2-A764-435E-B99C-4F441882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271-CEB1-4414-84A4-5A4C9D02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A12-2DA8-47ED-B655-FC910939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6BB-6F0D-44ED-9651-4435A509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56B-A5FF-4325-B14F-6DC1123B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A14-B39D-447B-A072-D2637FC1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532-39AD-42BE-9EC5-B466A339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3D0-0824-42C9-BAFA-70BA2D8E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7E4-C244-4150-821F-4A8A2497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38D-CAFB-4E32-B65B-FE36DD1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7BA-C626-43D9-A15E-B166545D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26E96-5C64-4834-9D47-EE4723CA26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