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81630"/>
        <c:axId val="85164250"/>
      </c:barChart>
      <c:catAx>
        <c:axId val="44781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64250"/>
        <c:crosses val="autoZero"/>
        <c:auto val="1"/>
        <c:lblAlgn val="ctr"/>
        <c:lblOffset val="100"/>
        <c:noMultiLvlLbl val="0"/>
      </c:catAx>
      <c:valAx>
        <c:axId val="85164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81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5E2-E6B0-48BE-B34B-9F173007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BD4-42BE-42F7-8B0C-DFCA36D2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DD9-632D-4D42-B418-AB650811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C28-1630-4137-A26B-872DD410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E28-15F8-4DE8-BE5C-E705DD26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B8E-85B6-4177-982F-82636183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A53-4978-4167-95AE-EB625581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860-1A74-425A-A7D8-81AE53E7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590-FE84-4E00-9FCD-F6FDCB7A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A48-5B0B-4598-9179-CDC7EE31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479-F9D3-4A11-B2B2-F9A68E40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E7E-AC98-4BC6-B713-2223A8D2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E408D-8E26-42B3-9080-3FB4DBFF11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