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078339"/>
        <c:axId val="7932902"/>
      </c:barChart>
      <c:catAx>
        <c:axId val="13078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2902"/>
        <c:crosses val="autoZero"/>
        <c:auto val="1"/>
        <c:lblAlgn val="ctr"/>
        <c:lblOffset val="100"/>
        <c:noMultiLvlLbl val="0"/>
      </c:catAx>
      <c:valAx>
        <c:axId val="7932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78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99F7-9C76-415E-B168-BC3E1860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47DB-056D-4142-8362-798141BD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01A-C78A-4721-893E-3CFADF55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EBD-22AA-4DB7-B19A-5E62F20A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4E66-FEAC-4672-90AC-5A7FD263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EBD7-8070-467F-8B14-10C6568D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3995-4C66-409B-98CE-AACB1A20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FD02-E500-49FE-947C-65FE52C1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D11-C4A0-4832-A782-871F1BA4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51C-3DF1-4F15-BEC6-17D54849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3147-1C79-4606-9025-740571A1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4B06-542C-43C6-B699-90DC6475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BE865-1A39-4AD2-8F13-B347571E29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