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85568"/>
        <c:axId val="15428424"/>
      </c:barChart>
      <c:catAx>
        <c:axId val="93685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8424"/>
        <c:crosses val="autoZero"/>
        <c:auto val="1"/>
        <c:lblAlgn val="ctr"/>
        <c:lblOffset val="100"/>
        <c:noMultiLvlLbl val="0"/>
      </c:catAx>
      <c:valAx>
        <c:axId val="15428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5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3F5-D44C-4436-A2D8-8D6EEE6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0A4-EC73-45AA-93DA-8EA7878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AE6-7007-4C46-9A65-F3AD1C5C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B05-1D30-4E6F-A391-CE156338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5FD-F88E-4CF6-9384-CF56306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B2A-A9DD-48ED-A1AD-80EDE95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5A3-628D-492F-A8EB-F0FFD70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D29-266B-46EF-9115-7DBE7D6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6A2-A8A3-49F7-86F9-36C2012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416-56C2-428E-83BD-3517FD3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53B-45C1-412F-904C-6759935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D42-388D-44E3-B84C-C6A5C89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8B29D-22F5-472C-BEEF-E2DF712D1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