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4048111"/>
        <c:axId val="67031720"/>
      </c:barChart>
      <c:catAx>
        <c:axId val="8404811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031720"/>
        <c:crosses val="autoZero"/>
        <c:auto val="1"/>
        <c:lblAlgn val="ctr"/>
        <c:lblOffset val="100"/>
        <c:noMultiLvlLbl val="0"/>
      </c:catAx>
      <c:valAx>
        <c:axId val="6703172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04811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4E135-2EAE-40E9-841A-E66594337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46C5D-BA3B-4BC3-9B74-FA82AEF8D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45BFB-B154-4584-AED4-F1855A666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6A7F7-7A2C-423B-A3F0-3C133107D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B271D-AF38-4710-ABCA-527AFDAB4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85AE6-CE64-4BC2-95D9-81EF5BEDD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C0DB2-1ED1-40BD-9404-BED84F950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F415F-386A-42AA-89B4-494F3FD20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8AE03-24F6-4297-BE4E-022C6FECE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0FA54-ABFC-4F20-98F1-CED042E0B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F497D-7873-4729-927E-879BC87B4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B2C8A-DFD2-41C1-B8AF-15636CBBB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AC52E8-3035-436E-85E0-436823DFAB4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