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86660"/>
        <c:axId val="19981710"/>
      </c:barChart>
      <c:catAx>
        <c:axId val="63686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81710"/>
        <c:crosses val="autoZero"/>
        <c:auto val="1"/>
        <c:lblAlgn val="ctr"/>
        <c:lblOffset val="100"/>
        <c:noMultiLvlLbl val="0"/>
      </c:catAx>
      <c:valAx>
        <c:axId val="19981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6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304-4AED-4FE4-A640-30B60BC0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3A0-EAA4-4F51-A1AF-AC7C690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5B6-7446-4A02-92E4-AFB070F5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33E-F84D-44E3-B5A5-606D851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C4E-1C80-4AB1-BA85-9B98E6FD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054-E006-445D-A2F6-E46F4AE0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C2-4768-4DB7-BA10-66652BC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1FC-DDE0-4679-9D26-7CA9093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995-B7F9-45DC-AF22-2D00754F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C74-F531-44F5-B681-9987DCD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31B-ADB8-4BB2-A008-8793F25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57E-B814-4290-AD0E-89575B1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EECAB-6B15-483E-AAA9-B68C161FE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