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47725"/>
        <c:axId val="48245035"/>
      </c:barChart>
      <c:catAx>
        <c:axId val="87747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45035"/>
        <c:crosses val="autoZero"/>
        <c:auto val="1"/>
        <c:lblAlgn val="ctr"/>
        <c:lblOffset val="100"/>
        <c:noMultiLvlLbl val="0"/>
      </c:catAx>
      <c:valAx>
        <c:axId val="48245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47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38B-8439-47AA-93DF-6D0D59C8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A30-11B9-4801-8357-DF09B941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E86-CC00-4397-8A4A-DC6D7DFD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00A-787E-4B87-812F-C608AA28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DD4-949C-4829-9575-0C21D70C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254-5A15-47D3-A428-499CFBA5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3A8-6B3A-4B68-9012-80F9071B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7E3-3F4D-466D-8705-2866CA28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69C-22E2-4D42-AB76-467EA503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439-C24F-47BA-83B5-D1BB4972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1B0-DCF4-4C56-BD4C-390BD3D1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E44-6D29-4E7D-99EB-6168556D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EDBC3-3ADD-4DED-92C9-6A5785B9FE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