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2799570"/>
        <c:axId val="53864192"/>
      </c:barChart>
      <c:catAx>
        <c:axId val="527995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864192"/>
        <c:crosses val="autoZero"/>
        <c:auto val="1"/>
        <c:lblAlgn val="ctr"/>
        <c:lblOffset val="100"/>
        <c:noMultiLvlLbl val="0"/>
      </c:catAx>
      <c:valAx>
        <c:axId val="538641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7995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15C54-DCBF-47B2-91E5-678645579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863A8-C0D0-48BF-85F4-10F5DB7F6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39F5-D070-4FA2-A776-E9E98C0650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94F46-AF7F-4B0D-8958-57E8CC615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EAE2-CDBE-456E-8BAA-0E5455448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ECF9E-FA8E-476D-BD8C-78FE770CFE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9C9A1-0886-4B68-8134-92D0EF06E4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6ECA4-4828-429B-B581-B6BA93E8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1C12-9174-47DD-BA51-A5DD66A23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80C40-4C29-44EA-9E5D-C0F48AEC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2F150-B8EE-4B44-B22C-1A3768D66B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766F1-B731-4AB0-B373-9B4BF79E6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C5E3803-2FF5-411F-8D39-C2084730692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